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5.jpeg" ContentType="image/jpeg"/>
  <Override PartName="/ppt/media/image50.png" ContentType="image/png"/>
  <Override PartName="/ppt/media/image45.png" ContentType="image/png"/>
  <Override PartName="/ppt/media/image46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36.png" ContentType="image/png"/>
  <Override PartName="/ppt/media/image35.png" ContentType="image/png"/>
  <Override PartName="/ppt/media/image30.png" ContentType="image/png"/>
  <Override PartName="/ppt/media/image11.png" ContentType="image/png"/>
  <Override PartName="/ppt/media/image48.png" ContentType="image/png"/>
  <Override PartName="/ppt/media/image13.png" ContentType="image/png"/>
  <Override PartName="/ppt/media/image10.png" ContentType="image/png"/>
  <Override PartName="/ppt/media/image47.png" ContentType="image/png"/>
  <Override PartName="/ppt/media/image49.png" ContentType="image/png"/>
  <Override PartName="/ppt/media/image12.png" ContentType="image/png"/>
  <Override PartName="/ppt/media/image39.png" ContentType="image/png"/>
  <Override PartName="/ppt/media/image9.png" ContentType="image/png"/>
  <Override PartName="/ppt/media/image37.png" ContentType="image/png"/>
  <Override PartName="/ppt/media/image7.png" ContentType="image/png"/>
  <Override PartName="/ppt/media/image38.png" ContentType="image/pn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DCDF7-834F-48CB-8DBF-7617193969AB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A9B6-F033-410B-91AC-15AE59160034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76CF8-3472-4739-A6FC-B9178733AC4F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B5250-2FAE-4C78-9E4B-9119FCA87448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EFACB-2BF0-4E65-9D99-768264757942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D4FB9-A693-451D-B1F9-7B66E1AAE212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B5313-A5D8-4608-8A4F-29DDE2D0F350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FFECF-AD31-4FAB-B503-D130C36EC4CC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0E492-8E56-4370-9ACA-5E6AC09C4334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0B85C-5F96-43AF-9284-5A806EF90CE2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36B92-1075-4050-9233-0AC7CE6A5FCD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29A0F-44DF-44FA-A97B-F594977F3801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E5448-71C9-422E-92FC-538D7604D7E4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4DF4C-242D-4A54-9BC1-E8EF84D807C5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97839-EDDA-49FA-915C-3AADCC99669D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14C52-EC7E-48FE-803D-1D3387C23221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F2CBA-BCC2-40C7-8E8F-5C02D4DE7E61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29428-AFD3-464A-A1AF-E767CA6AB3BC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6BAEF-E416-4C4B-BFEC-4FD03BB67AC5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F6DC2-05A6-42C2-8B09-3BD809DA8F1E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832A7-C965-4D43-B501-B63AAA88BC9F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D3FA1-FD11-4259-9857-5E5FF2C46406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4C67B-E35C-43B2-9FFA-E083B821185D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CF16F-79C7-45E7-91CC-F82399452CC7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9E5BB-05FA-4479-9B22-0CAFC89A6389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62FA7-2F45-4FF2-A11D-83EA8C49E08A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6AC8-D0A3-4120-B132-3C2549DA478B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687DC-A560-4B8E-B674-3F1EB827E085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BE626-E922-449C-A9FE-431DB219031A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7674A-C3F0-4169-952C-0CBAC4F59A74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E4435-3C13-44D0-B7A6-F9C785D8E5C0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9CF8D-7D03-4B48-AF7D-ECDEDFFE2950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37F6-7EAA-4074-92AE-4A2A3BFE0B0C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CACCB-4D23-4BA8-B35B-2795DE88E4A5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ABB90-71E1-4069-98D9-B19EDBB8A16F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A0E7F-9E14-4003-9006-31193A0F43C1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E7AA2-92F8-4041-8F8D-EC003C0B3142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F16C6-1687-4B4D-A08C-A82DF4224A3F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26653-8B9E-444A-8A1A-A66C12398E61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0562-4B75-4FB8-B3C4-7F4DBB846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E167-9516-47E3-B9E6-6606545B9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E20D-8550-4D82-9BB6-B381DBFE7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48F9-D6F1-462A-99DC-A6173936C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4C1CC-5B5B-44F6-BAC3-6D622DFF1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075C7-B6E1-4318-B69B-827C36823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78ADE-A124-4C6A-9955-268CF0ED9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F9006-0CE3-4CFF-9206-C84B10343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3C090-57BF-439E-BFC3-4E7F25827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931A8-1EF5-47AE-9D22-864F245FE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57C26-E3EF-4149-BB88-E344C017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A075-83D6-4FCB-A725-BEB6B5661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CAE35-6DF4-4BBB-8A53-5CD2AFAE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D9E26-1EAE-4AA4-B811-79140C92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D2732-6834-4DF4-B600-8DDCD659D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67D52-9994-44F0-BA4D-4A08C9E3B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A9ABF-5423-4DAE-BB50-64987980E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84B06-D60B-4B88-9FA1-6A25609F3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19659-08D2-4568-807B-9670BC239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3ACDF-9F94-4EE9-BC79-5FC31883E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5D9E2-2341-4F70-A39F-6AD8422D4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04823-56E0-4CD6-9856-24469F716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9E64-DF56-43FE-B4DD-B280C83D8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8921B-D362-4AA7-A02F-28A10E5A3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F9758-026F-40CB-B28F-39F6B228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140A8-86D8-4C94-AC30-F7959798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A1061-9E94-41C0-97BE-8AE66426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F6A1C-EDE5-4028-ACBD-D7B82A7AF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804BA-627D-47A2-98C1-04DD815DF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1BBA8-3AAA-44E6-A17B-C38B033BA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1A3F6-7428-44D4-93BF-9F2422338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6972F-BDCA-42F8-ABA1-91F0D9FAC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40F50-AF12-4501-A883-65FD36F5E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5DE7-A763-428A-98FD-062E8FEA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CFAEB-8A05-42EF-8B09-412A02A29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8F2ED-7997-465A-8565-19B1666A0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ED14B-4B25-4AC1-9C0D-64BCA5D6C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3F352-9A39-4FF3-B712-4EA2DBE0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27AEB-C3B9-4D0A-AB60-018311B4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438F1-E5D6-4AC9-8A1D-6D7DB196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3A8A5-E32D-432E-A2BB-0322D3A06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42BF5-770A-4DB3-9A61-536A06698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A1A2A-36C7-443A-99FC-723A3E210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5F8CD-CE5F-463A-AB27-EA8E75D7D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A254-CD0F-4549-BC44-20F1F6537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9B89F-ECFF-4C2C-8B73-46F843AD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324DA-3A4E-4163-810E-C96D1DB2F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2DF03-1841-4C86-9BE4-ED29E290A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340E7-8499-42A3-A0C3-6466FBE1A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F196D-9F7D-42D9-A92C-A3A254197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4107D-40BE-4948-AE23-1D4D1EDA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FBE1F-3B08-46A6-BE16-1738BE50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F15CE-62A4-4456-A323-6C6F6676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93476D-E845-4F1A-B5AD-48671EE17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B5DAD-39DE-4A37-A486-097C6EFA2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2428-96A3-4766-9E1C-6AA505324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B4598-05B0-47E4-95CB-01E861989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95A3D-1E66-4C94-915B-28700E76C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D4ED9-E1A9-47C2-9AAF-9659E9207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11888-326E-4AC2-92C7-15744380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61C06-C06F-4A29-BFF7-2B5902BEC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ACEE7-6F28-4F47-AA88-099F128A6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583EB-5337-4ED9-99A7-4AB862758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54888-2FBC-4634-9F06-DD1DC871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B9990-A7A0-41B6-9BF9-FFE6B7B1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8125F-08D4-40C2-B315-35217F61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B0B0-690B-4301-8774-3FDF4ED5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8F06AD-582D-454A-AC69-85F4BC9D6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3091D9-B290-466F-9D6E-5882CAA81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5DEBA-3368-4ADF-BE92-911A6116B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1E3E6-1404-4CC4-96A4-77B0EBBFD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0ED246-AF33-4159-B68B-216AF79F2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5CF0AF-CD1C-48F2-B316-967CDABFC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974FD-2FA1-4BBB-88A0-24BDE7A27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38D97-B8AC-43FB-9B3F-0C5924E88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AC197E-63BC-485F-9388-A099ADF53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3723C0-C7DA-46A9-B689-89CC373F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522D-135B-42AA-8FAB-60C2D80E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7F762-8595-4261-BE9F-3669F3FD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53131-3534-4467-BB46-2120DFDD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E67D6-BB69-4345-82A3-7F112E0CA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1C5A4F-382D-4F7B-8ECC-ECDB370DD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B8698-EF5D-4487-8FA8-57DC1B704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4C5E8C-EBE6-4342-A274-A18B93491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5B3E4-81B4-47B5-B3C4-2D031A698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9F9D17-5FD0-42D6-953F-DB1C6437D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428B6B-8C97-44B8-B537-02B1EC889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6F0B88-4B73-40D6-A331-9AB31CD90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362C-8BED-4F8B-A641-0ADB7B36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01BFD6-591E-4644-8A4B-63573C99E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38F895-F1CE-4A24-8045-D29D5633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59308-1E4C-4450-98BE-B17D683C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787BB8-2EF2-4A57-A3C9-8C5C967D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B3ABE7-57EA-4AB8-91EA-FACF81F1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37648C-4969-4A8E-B26F-A7D460C85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17D6E4-2265-4EC0-9245-8B2399AF9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7CDD3-4829-4152-B49C-F06395B05B3F}" type="slidenum"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1B93B-5DCC-47C4-9B3A-77642B8AC5FD}" type="slidenum">
              <a:rPr b="0" lang="sr-Latn-C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6D1A7-EEF9-4FFB-A3BA-99F4984FD7B2}" type="slidenum"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4625D-F603-464B-BC74-535DA7C7A2F7}" type="slidenum"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11FC6-66F7-47CF-BB1A-31712876C72F}" type="slidenum"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A10ED-FA88-42F0-8B5B-93C32289D0B7}" type="slidenum"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2BE29-B337-4957-A3F1-3AE25C3ED45D}" type="slidenum"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9DF91-4D27-48A5-B8FB-12A98589BDE6}" type="slidenum">
              <a:rPr b="0" lang="sr-Latn-C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1928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30456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Lucida Sans Unicode"/>
              </a:rPr>
              <a:t>Modus </a:t>
            </a:r>
            <a:r>
              <a:rPr b="0" lang="sr-Latn-CS" sz="2800" spc="-1" strike="noStrike">
                <a:solidFill>
                  <a:srgbClr val="000000"/>
                </a:solidFill>
                <a:latin typeface="Lucida Sans Unicode"/>
              </a:rPr>
              <a:t>najčešća vrijednost koja se pojavljuje u jednom setu brojeva. Npr. ako je set brojeva: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Lucida Sans Unicode"/>
              </a:rPr>
              <a:t>3,4,6,1,</a:t>
            </a:r>
            <a:r>
              <a:rPr b="1" i="1" lang="sr-Latn-CS" sz="2800" spc="-1" strike="noStrike">
                <a:solidFill>
                  <a:srgbClr val="000000"/>
                </a:solidFill>
                <a:latin typeface="Lucida Sans Unicode"/>
              </a:rPr>
              <a:t>8,8,</a:t>
            </a:r>
            <a:r>
              <a:rPr b="0" i="1" lang="sr-Latn-CS" sz="2800" spc="-1" strike="noStrike">
                <a:solidFill>
                  <a:srgbClr val="000000"/>
                </a:solidFill>
                <a:latin typeface="Lucida Sans Unicode"/>
              </a:rPr>
              <a:t>9,3,4,6,</a:t>
            </a:r>
            <a:r>
              <a:rPr b="1" i="1" lang="sr-Latn-CS" sz="2800" spc="-1" strike="noStrike">
                <a:solidFill>
                  <a:srgbClr val="000000"/>
                </a:solidFill>
                <a:latin typeface="Lucida Sans Unicode"/>
              </a:rPr>
              <a:t>8,</a:t>
            </a:r>
            <a:r>
              <a:rPr b="0" i="1" lang="sr-Latn-CS" sz="2800" spc="-1" strike="noStrike">
                <a:solidFill>
                  <a:srgbClr val="000000"/>
                </a:solidFill>
                <a:latin typeface="Lucida Sans Unicode"/>
              </a:rPr>
              <a:t>2,3,</a:t>
            </a:r>
            <a:r>
              <a:rPr b="1" i="1" lang="sr-Latn-CS" sz="2800" spc="-1" strike="noStrike">
                <a:solidFill>
                  <a:srgbClr val="000000"/>
                </a:solidFill>
                <a:latin typeface="Lucida Sans Unicode"/>
              </a:rPr>
              <a:t>8,8,</a:t>
            </a:r>
            <a:r>
              <a:rPr b="0" i="1" lang="sr-Latn-CS" sz="2800" spc="-1" strike="noStrike">
                <a:solidFill>
                  <a:srgbClr val="000000"/>
                </a:solidFill>
                <a:latin typeface="Lucida Sans Unicode"/>
              </a:rPr>
              <a:t>0,9</a:t>
            </a:r>
            <a:r>
              <a:rPr b="1" i="1" lang="sr-Latn-CS" sz="2800" spc="-1" strike="noStrike">
                <a:solidFill>
                  <a:srgbClr val="000000"/>
                </a:solidFill>
                <a:latin typeface="Lucida Sans Unicode"/>
              </a:rPr>
              <a:t>,8,4,</a:t>
            </a:r>
            <a:r>
              <a:rPr b="0" i="1" lang="sr-Latn-CS" sz="2800" spc="-1" strike="noStrike">
                <a:solidFill>
                  <a:srgbClr val="000000"/>
                </a:solidFill>
                <a:latin typeface="Lucida Sans Unicode"/>
              </a:rPr>
              <a:t>5,6,</a:t>
            </a:r>
            <a:r>
              <a:rPr b="1" i="1" lang="sr-Latn-CS" sz="2800" spc="-1" strike="noStrike">
                <a:solidFill>
                  <a:srgbClr val="000000"/>
                </a:solidFill>
                <a:latin typeface="Lucida Sans Unicode"/>
              </a:rPr>
              <a:t>8,</a:t>
            </a:r>
            <a:r>
              <a:rPr b="0" i="1" lang="sr-Latn-CS" sz="2800" spc="-1" strike="noStrike">
                <a:solidFill>
                  <a:srgbClr val="000000"/>
                </a:solidFill>
                <a:latin typeface="Lucida Sans Unicode"/>
              </a:rPr>
              <a:t>3,3,4,7,8,9,</a:t>
            </a:r>
            <a:r>
              <a:rPr b="1" i="1" lang="sr-Latn-CS" sz="2800" spc="-1" strike="noStrike">
                <a:solidFill>
                  <a:srgbClr val="000000"/>
                </a:solidFill>
                <a:latin typeface="Lucida Sans Unicode"/>
              </a:rPr>
              <a:t>8,</a:t>
            </a:r>
            <a:r>
              <a:rPr b="0" i="1" lang="sr-Latn-CS" sz="2800" spc="-1" strike="noStrike">
                <a:solidFill>
                  <a:srgbClr val="000000"/>
                </a:solidFill>
                <a:latin typeface="Lucida Sans Unicode"/>
              </a:rPr>
              <a:t>0,</a:t>
            </a:r>
            <a:r>
              <a:rPr b="1" i="1" lang="sr-Latn-CS" sz="2800" spc="-1" strike="noStrike">
                <a:solidFill>
                  <a:srgbClr val="000000"/>
                </a:solidFill>
                <a:latin typeface="Lucida Sans Unicode"/>
              </a:rPr>
              <a:t>8,</a:t>
            </a:r>
            <a:r>
              <a:rPr b="0" i="1" lang="sr-Latn-CS" sz="2800" spc="-1" strike="noStrike">
                <a:solidFill>
                  <a:srgbClr val="000000"/>
                </a:solidFill>
                <a:latin typeface="Lucida Sans Unicode"/>
              </a:rPr>
              <a:t>5,</a:t>
            </a:r>
            <a:r>
              <a:rPr b="1" i="1" lang="sr-Latn-CS" sz="2800" spc="-1" strike="noStrike">
                <a:solidFill>
                  <a:srgbClr val="000000"/>
                </a:solidFill>
                <a:latin typeface="Lucida Sans Unicode"/>
              </a:rPr>
              <a:t>8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Lucida Sans Unicode"/>
              </a:rPr>
              <a:t>Onda je modus = 8, dakle, broj koji se najviše puta pojavio u nizu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Title 1" descr=""/>
          <p:cNvPicPr/>
          <p:nvPr/>
        </p:nvPicPr>
        <p:blipFill>
          <a:blip r:embed="rId1"/>
          <a:stretch/>
        </p:blipFill>
        <p:spPr>
          <a:xfrm>
            <a:off x="208080" y="66600"/>
            <a:ext cx="847872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U zavisnosti od prirode podataka modus može biti manje ili više korisna mjera centralne tendencij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700" spc="-1" strike="noStrike">
                <a:solidFill>
                  <a:srgbClr val="000000"/>
                </a:solidFill>
                <a:latin typeface="Lucida Sans Unicode"/>
              </a:rPr>
              <a:t>U našem prim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j</a:t>
            </a:r>
            <a:r>
              <a:rPr b="0" lang="vi-VN" sz="2700" spc="-1" strike="noStrike">
                <a:solidFill>
                  <a:srgbClr val="000000"/>
                </a:solidFill>
                <a:latin typeface="Lucida Sans Unicode"/>
              </a:rPr>
              <a:t>eru da u uzorku ima najviše ispitanika koji imaju 21 godinu, taj podatkak nam i ne govori mnogo. Međutim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,</a:t>
            </a:r>
            <a:r>
              <a:rPr b="0" lang="vi-VN" sz="2700" spc="-1" strike="noStrike">
                <a:solidFill>
                  <a:srgbClr val="000000"/>
                </a:solidFill>
                <a:latin typeface="Lucida Sans Unicode"/>
              </a:rPr>
              <a:t> ako pogledamo grafik prim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ij</a:t>
            </a:r>
            <a:r>
              <a:rPr b="0" lang="vi-VN" sz="2700" spc="-1" strike="noStrike">
                <a:solidFill>
                  <a:srgbClr val="000000"/>
                </a:solidFill>
                <a:latin typeface="Lucida Sans Unicode"/>
              </a:rPr>
              <a:t>etićemo da je distribucija neravnom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j</a:t>
            </a:r>
            <a:r>
              <a:rPr b="0" lang="vi-VN" sz="2700" spc="-1" strike="noStrike">
                <a:solidFill>
                  <a:srgbClr val="000000"/>
                </a:solidFill>
                <a:latin typeface="Lucida Sans Unicode"/>
              </a:rPr>
              <a:t>erna upravo u ovom sektoru, tačnije kod mlađe kategorije ispitanik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45496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U istraživanjima se ner</a:t>
            </a: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ij</a:t>
            </a:r>
            <a:r>
              <a:rPr b="0" lang="vi-VN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etko koriste likertove l</a:t>
            </a: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j</a:t>
            </a:r>
            <a:r>
              <a:rPr b="0" lang="vi-VN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estvice proc</a:t>
            </a: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j</a:t>
            </a:r>
            <a:r>
              <a:rPr b="0" lang="vi-VN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ene koje imaju vr</a:t>
            </a: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ij</a:t>
            </a:r>
            <a:r>
              <a:rPr b="0" lang="vi-VN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ednosti npr.: veome dobro, dobro, loše i veoma loše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petostepena skala: „uopšte se ne slažem”, „ne slažem se”, „nemam mišljenje”, „slažem se”, „potpuno se slažem”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     </a:t>
            </a:r>
            <a:r>
              <a:rPr b="0" lang="vi-VN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U ovakvim situacijama modus nam daje vredniju informaciju u poređenju sa aritmetičkom sredinom i medijanom</a:t>
            </a: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. Zašto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45496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30592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Lucida Sans Unicode"/>
              </a:rPr>
              <a:t>Mjere centralne tendencije samo parcijalno opisuju podatke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Lucida Sans Unicode"/>
              </a:rPr>
              <a:t>Centralna tendencija uz mjere varijabilnosti nam pomaže da vizualizujemo oblik jedne distribucije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Lucida Sans Unicode"/>
              </a:rPr>
              <a:t>Varijabilnost je sastvani dio distribucije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208080" y="274680"/>
            <a:ext cx="8478720" cy="12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"/>
          <p:cNvPicPr/>
          <p:nvPr/>
        </p:nvPicPr>
        <p:blipFill>
          <a:blip r:embed="rId1"/>
          <a:stretch/>
        </p:blipFill>
        <p:spPr>
          <a:xfrm>
            <a:off x="641520" y="1371600"/>
            <a:ext cx="7511760" cy="4533840"/>
          </a:xfrm>
          <a:prstGeom prst="rect">
            <a:avLst/>
          </a:prstGeom>
          <a:ln w="0">
            <a:noFill/>
          </a:ln>
        </p:spPr>
      </p:pic>
      <p:pic>
        <p:nvPicPr>
          <p:cNvPr id="405" name="Title 1" descr=""/>
          <p:cNvPicPr/>
          <p:nvPr/>
        </p:nvPicPr>
        <p:blipFill>
          <a:blip r:embed="rId2"/>
          <a:stretch/>
        </p:blipFill>
        <p:spPr>
          <a:xfrm>
            <a:off x="231840" y="128520"/>
            <a:ext cx="845496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2" descr=""/>
          <p:cNvPicPr/>
          <p:nvPr/>
        </p:nvPicPr>
        <p:blipFill>
          <a:blip r:embed="rId1"/>
          <a:stretch/>
        </p:blipFill>
        <p:spPr>
          <a:xfrm>
            <a:off x="1523880" y="1601640"/>
            <a:ext cx="6391440" cy="3875400"/>
          </a:xfrm>
          <a:prstGeom prst="rect">
            <a:avLst/>
          </a:prstGeom>
          <a:ln w="0">
            <a:noFill/>
          </a:ln>
        </p:spPr>
      </p:pic>
      <p:pic>
        <p:nvPicPr>
          <p:cNvPr id="407" name="Title 1" descr=""/>
          <p:cNvPicPr/>
          <p:nvPr/>
        </p:nvPicPr>
        <p:blipFill>
          <a:blip r:embed="rId2"/>
          <a:stretch/>
        </p:blipFill>
        <p:spPr>
          <a:xfrm>
            <a:off x="231840" y="133200"/>
            <a:ext cx="845496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2" descr=""/>
          <p:cNvPicPr/>
          <p:nvPr/>
        </p:nvPicPr>
        <p:blipFill>
          <a:blip r:embed="rId1"/>
          <a:stretch/>
        </p:blipFill>
        <p:spPr>
          <a:xfrm>
            <a:off x="2590920" y="1981080"/>
            <a:ext cx="4748040" cy="4422960"/>
          </a:xfrm>
          <a:prstGeom prst="rect">
            <a:avLst/>
          </a:prstGeom>
          <a:ln w="0">
            <a:noFill/>
          </a:ln>
        </p:spPr>
      </p:pic>
      <p:pic>
        <p:nvPicPr>
          <p:cNvPr id="409" name="Title 1" descr=""/>
          <p:cNvPicPr/>
          <p:nvPr/>
        </p:nvPicPr>
        <p:blipFill>
          <a:blip r:embed="rId2"/>
          <a:stretch/>
        </p:blipFill>
        <p:spPr>
          <a:xfrm>
            <a:off x="231840" y="274680"/>
            <a:ext cx="8454960" cy="1189080"/>
          </a:xfrm>
          <a:prstGeom prst="rect">
            <a:avLst/>
          </a:prstGeom>
          <a:ln w="0">
            <a:noFill/>
          </a:ln>
        </p:spPr>
      </p:pic>
      <p:sp>
        <p:nvSpPr>
          <p:cNvPr id="410" name="TextBox 4"/>
          <p:cNvSpPr/>
          <p:nvPr/>
        </p:nvSpPr>
        <p:spPr>
          <a:xfrm>
            <a:off x="1981080" y="167652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rimjer asimetri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  <a:ea typeface="Arial"/>
              </a:rPr>
              <a:t>čne distribucije nakrivljene u desn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2,2,2,2,2,3,3,3,4,4,5,5,5,8,9,10,11,12,13,14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Medijana je (4+5)/2=4.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Aritmetička sredina 119/20=5.9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Title 1" descr=""/>
          <p:cNvPicPr/>
          <p:nvPr/>
        </p:nvPicPr>
        <p:blipFill>
          <a:blip r:embed="rId1"/>
          <a:stretch/>
        </p:blipFill>
        <p:spPr>
          <a:xfrm>
            <a:off x="208080" y="274680"/>
            <a:ext cx="8497800" cy="12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2" descr=""/>
          <p:cNvPicPr/>
          <p:nvPr/>
        </p:nvPicPr>
        <p:blipFill>
          <a:blip r:embed="rId1"/>
          <a:stretch/>
        </p:blipFill>
        <p:spPr>
          <a:xfrm>
            <a:off x="2362320" y="2562120"/>
            <a:ext cx="4267080" cy="3679920"/>
          </a:xfrm>
          <a:prstGeom prst="rect">
            <a:avLst/>
          </a:prstGeom>
          <a:ln w="0">
            <a:noFill/>
          </a:ln>
        </p:spPr>
      </p:pic>
      <p:pic>
        <p:nvPicPr>
          <p:cNvPr id="414" name="Title 1" descr=""/>
          <p:cNvPicPr/>
          <p:nvPr/>
        </p:nvPicPr>
        <p:blipFill>
          <a:blip r:embed="rId2"/>
          <a:stretch/>
        </p:blipFill>
        <p:spPr>
          <a:xfrm>
            <a:off x="231840" y="274680"/>
            <a:ext cx="8454960" cy="1189080"/>
          </a:xfrm>
          <a:prstGeom prst="rect">
            <a:avLst/>
          </a:prstGeom>
          <a:ln w="0">
            <a:noFill/>
          </a:ln>
        </p:spPr>
      </p:pic>
      <p:sp>
        <p:nvSpPr>
          <p:cNvPr id="415" name="TextBox 4"/>
          <p:cNvSpPr/>
          <p:nvPr/>
        </p:nvSpPr>
        <p:spPr>
          <a:xfrm>
            <a:off x="2209680" y="190512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rimjer asimetri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  <a:ea typeface="Arial"/>
              </a:rPr>
              <a:t>čne distribucije nakrivljene u lije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2,2,3,4,5,5,8,8,8,8,9,9,9,9,9,10,10,11,11,1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Medijana (8+8)/2=8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Aritmetička sredina = 151/20 = 7.5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51544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609480"/>
            <a:ext cx="86868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Lucida Sans Unicode"/>
              </a:rPr>
              <a:t>ŠTA MORAMO </a:t>
            </a: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SAVLADATI</a:t>
            </a:r>
            <a:r>
              <a:rPr b="0" lang="sr-Latn-CS" sz="4000" spc="-1" strike="noStrike">
                <a:solidFill>
                  <a:srgbClr val="000000"/>
                </a:solidFill>
                <a:latin typeface="Lucida Sans Unicode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jere centralne tendencij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Mjere varijabilnost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Procjenu i značaj distribucij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2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5105520" cy="5061240"/>
          </a:xfrm>
          <a:prstGeom prst="rect">
            <a:avLst/>
          </a:prstGeom>
          <a:ln w="0">
            <a:noFill/>
          </a:ln>
        </p:spPr>
      </p:pic>
      <p:pic>
        <p:nvPicPr>
          <p:cNvPr id="419" name="Title 1" descr=""/>
          <p:cNvPicPr/>
          <p:nvPr/>
        </p:nvPicPr>
        <p:blipFill>
          <a:blip r:embed="rId2"/>
          <a:stretch/>
        </p:blipFill>
        <p:spPr>
          <a:xfrm>
            <a:off x="231840" y="274680"/>
            <a:ext cx="845496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2,2,2,3,3,3,4,4,4,5,5,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Medijana (3+4)/2=3.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Aritmetička sredina 42/12=3.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1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Lucida Sans Unicode"/>
              </a:rPr>
              <a:t>Normalna distribucija predstavlja onaj tip distribucije u kojem se vrh distribucije poklapa sa aritmetičkom sredinom distribucije (grafikon 5)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Lucida Sans Unicode"/>
              </a:rPr>
              <a:t>Ovaj tip distribucije ima oblik ‘zvona’ pa se često upravo ovaj figurativan naziv koristi za normalnu distribuciju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Lucida Sans Unicode"/>
              </a:rPr>
              <a:t>Normalna distribucija, kao koncept, igra veoma važnu ulogu u statistici, naime, veliki broj statističkih testova počiva na pretpostavci da su vrijednosti normalno distribuirane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3" name="Title 1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45496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Lucida Sans Unicode"/>
              </a:rPr>
              <a:t>Asimetrična distribucija je onaj tip distribucije u kome se aritmetička sredina ne poklapa sa vrhom distribucije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Lucida Sans Unicode"/>
              </a:rPr>
              <a:t>Distribucija može biti asimetrična u dva smjera: prvo, ona može biti iskrivljena u desno (grafikon 3) i ona može biti iskrivljena u lijevo (grafikon 4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Lucida Sans Unicode"/>
              </a:rPr>
              <a:t>Najgori mogući slučaj asimetrične distribucije jeste ukoliko je ona nakrivljena istovremeno i u lijevo i u desno - ona ima dva vrha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Lucida Sans Unicode"/>
              </a:rPr>
              <a:t>Kada imamo slučaj izrazito asimetrične distribucije, onda nam to govori da mi u okviru populacije imamo dve kategorije (kohorte), koje se suštinski razlikuju po datoj karakteristici . Odvojena analiza.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5" name="Title 1" descr=""/>
          <p:cNvPicPr/>
          <p:nvPr/>
        </p:nvPicPr>
        <p:blipFill>
          <a:blip r:embed="rId1"/>
          <a:stretch/>
        </p:blipFill>
        <p:spPr>
          <a:xfrm>
            <a:off x="231840" y="274680"/>
            <a:ext cx="845496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7631280" cy="5278680"/>
          </a:xfrm>
          <a:prstGeom prst="rect">
            <a:avLst/>
          </a:prstGeom>
          <a:ln w="0">
            <a:noFill/>
          </a:ln>
        </p:spPr>
      </p:pic>
      <p:pic>
        <p:nvPicPr>
          <p:cNvPr id="427" name="Title 1" descr=""/>
          <p:cNvPicPr/>
          <p:nvPr/>
        </p:nvPicPr>
        <p:blipFill>
          <a:blip r:embed="rId2"/>
          <a:stretch/>
        </p:blipFill>
        <p:spPr>
          <a:xfrm>
            <a:off x="285840" y="201600"/>
            <a:ext cx="8400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457200" y="22093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</a:rPr>
              <a:t>Skewness je parametar koji pokazuje da li je distribucija asimetrična ulijevo ili udesn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</a:rPr>
              <a:t>Treći momenat distribucij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</a:rPr>
              <a:t>Skewness je jednak 0 ako je distribucija simetrična, a u suprotnom imaće vrijednost drugačiju od 0 sa predznakom koji je identičan kao i asimetrij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egativna asimetrija</a:t>
            </a: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</a:rPr>
              <a:t>, to znači da je distribucija nakošena ulijevo, tj. u tom slučaju veća je frekvencija natprosječnih vrijednosti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ozitivna asimetrija</a:t>
            </a: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</a:rPr>
              <a:t>, onda je distribucija nakošena udesno, i to znači da je frekvencija vrijednosti u korist ispodprosječnih vrijednosti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9" name="Title 1" descr=""/>
          <p:cNvPicPr/>
          <p:nvPr/>
        </p:nvPicPr>
        <p:blipFill>
          <a:blip r:embed="rId1"/>
          <a:stretch/>
        </p:blipFill>
        <p:spPr>
          <a:xfrm>
            <a:off x="237960" y="225360"/>
            <a:ext cx="887580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Lucida Sans Unicode"/>
              </a:rPr>
              <a:t>Kurtosis je parametar koji pruža informaciju o rasprostranjenosti distribucije po y osi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Lucida Sans Unicode"/>
              </a:rPr>
              <a:t>Kurtosis zapravo govori o tome u kojoj mjeri su vrijednosti koncentrisane oko aritmetičke sredine.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Lucida Sans Unicode"/>
              </a:rPr>
              <a:t>Grafikon 2 pokazuje različite mogućnosti distribucije koje su normalne, spljoštene ili zaoštrene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Lucida Sans Unicode"/>
              </a:rPr>
              <a:t>Četvrti momenat distribucije i ima vrijednost 3 za normalnu distribuciju (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&lt; 3 distribucija je spljo</a:t>
            </a:r>
            <a:r>
              <a:rPr b="0" lang="sr-Latn-ME" sz="2100" spc="-1" strike="noStrike">
                <a:solidFill>
                  <a:srgbClr val="000000"/>
                </a:solidFill>
                <a:latin typeface="Lucida Sans Unicode"/>
              </a:rPr>
              <a:t>štenija </a:t>
            </a:r>
            <a:r>
              <a:rPr b="0" lang="sr-Latn-CS" sz="2100" spc="-1" strike="noStrike">
                <a:solidFill>
                  <a:srgbClr val="000000"/>
                </a:solidFill>
                <a:latin typeface="Lucida Sans Unicode"/>
              </a:rPr>
              <a:t>od normalne , 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&gt; 3 distribucija je za</a:t>
            </a:r>
            <a:r>
              <a:rPr b="0" lang="sr-Latn-CS" sz="2100" spc="-1" strike="noStrike">
                <a:solidFill>
                  <a:srgbClr val="000000"/>
                </a:solidFill>
                <a:latin typeface="Lucida Sans Unicode"/>
              </a:rPr>
              <a:t>šiljenija od normalne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Lucida Sans Unicode"/>
              </a:rPr>
              <a:t>Takođe, od vrijednosti koju smo dobili možemo oduzeti  3 tako da idealna distribucija ima kurtosis = 0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Lucida Sans Unicode"/>
              </a:rPr>
              <a:t>U tom slučaju, spljoštene distribucije imaju negativnu (-) vrijednost a zašiljene pozitivnu (+) vrijednost kurtosisa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1" name="Title 1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52804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2" name=""/>
          <p:cNvGraphicFramePr/>
          <p:nvPr/>
        </p:nvGraphicFramePr>
        <p:xfrm>
          <a:off x="457200" y="1481040"/>
          <a:ext cx="8229600" cy="360684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x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f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Xi-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(Xi-µ)</a:t>
                      </a:r>
                      <a:r>
                        <a:rPr b="1" lang="sr-Latn-CS" sz="1800" spc="-1" strike="noStrike" baseline="30000">
                          <a:solidFill>
                            <a:srgbClr val="ffffff"/>
                          </a:solidFill>
                          <a:latin typeface="Lucida Sans Unicode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fi(Xi-µ)</a:t>
                      </a:r>
                      <a:r>
                        <a:rPr b="1" lang="sr-Latn-CS" sz="1800" spc="-1" strike="noStrike" baseline="30000">
                          <a:solidFill>
                            <a:srgbClr val="ffffff"/>
                          </a:solidFill>
                          <a:latin typeface="Lucida Sans Unicode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fi(Xi-µ)</a:t>
                      </a:r>
                      <a:r>
                        <a:rPr b="1" lang="sr-Latn-CS" sz="1800" spc="-1" strike="noStrike" baseline="30000">
                          <a:solidFill>
                            <a:srgbClr val="ffffff"/>
                          </a:solidFill>
                          <a:latin typeface="Lucida Sans Unicode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3.0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27.68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83.04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51.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2.0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8.30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41.51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4.07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1.0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1.07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6.46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.62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0.0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.9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0.92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7.41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.22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.9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.70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6.22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1.2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.9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6.33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2.6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56.66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24.7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97,08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  <p:pic>
        <p:nvPicPr>
          <p:cNvPr id="433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228600" y="1481040"/>
            <a:ext cx="868680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      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=7.025   </a:t>
            </a:r>
            <a:r>
              <a:rPr b="0" lang="el-GR" sz="2500" spc="-1" strike="noStrike">
                <a:solidFill>
                  <a:srgbClr val="000000"/>
                </a:solidFill>
                <a:latin typeface="Lucida Sans Unicode"/>
              </a:rPr>
              <a:t>σ</a:t>
            </a:r>
            <a:r>
              <a:rPr b="0" lang="en-US" sz="25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=2.576 </a:t>
            </a:r>
            <a:r>
              <a:rPr b="0" lang="el-GR" sz="2600" spc="-1" strike="noStrike">
                <a:solidFill>
                  <a:srgbClr val="000000"/>
                </a:solidFill>
                <a:latin typeface="Lucida Sans Unicode"/>
              </a:rPr>
              <a:t>σ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=1.605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M3=-24.7244/40=-0.6181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M4=597.0845/40=14.9271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α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sr-Latn-CS" sz="2500" spc="-1" strike="noStrike">
                <a:solidFill>
                  <a:srgbClr val="000000"/>
                </a:solidFill>
                <a:latin typeface="Lucida Sans Unicode"/>
              </a:rPr>
              <a:t>=M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sr-Latn-CS" sz="2500" spc="-1" strike="noStrike">
                <a:solidFill>
                  <a:srgbClr val="000000"/>
                </a:solidFill>
                <a:latin typeface="Lucida Sans Unicode"/>
              </a:rPr>
              <a:t>/ </a:t>
            </a:r>
            <a:r>
              <a:rPr b="0" lang="el-GR" sz="2500" spc="-1" strike="noStrike">
                <a:solidFill>
                  <a:srgbClr val="000000"/>
                </a:solidFill>
                <a:latin typeface="Lucida Sans Unicode"/>
              </a:rPr>
              <a:t>σ</a:t>
            </a:r>
            <a:r>
              <a:rPr b="0" lang="en-US" sz="25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α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sr-Latn-CS" sz="2500" spc="-1" strike="noStrike">
                <a:solidFill>
                  <a:srgbClr val="000000"/>
                </a:solidFill>
                <a:latin typeface="Lucida Sans Unicode"/>
              </a:rPr>
              <a:t>=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-0.6181/4.134=-0.15     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nako</a:t>
            </a:r>
            <a:r>
              <a:rPr b="1" lang="sr-Latn-CS" sz="1900" spc="-1" strike="noStrike">
                <a:solidFill>
                  <a:srgbClr val="000000"/>
                </a:solidFill>
                <a:latin typeface="Lucida Sans Unicode"/>
              </a:rPr>
              <a:t>š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ena ulijevo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baseline="30000">
                <a:solidFill>
                  <a:srgbClr val="000000"/>
                </a:solidFill>
                <a:latin typeface="Lucida Sans Unicode"/>
              </a:rPr>
              <a:t>        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α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sr-Latn-CS" sz="2500" spc="-1" strike="noStrike">
                <a:solidFill>
                  <a:srgbClr val="000000"/>
                </a:solidFill>
                <a:latin typeface="Lucida Sans Unicode"/>
              </a:rPr>
              <a:t>=M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sr-Latn-CS" sz="2500" spc="-1" strike="noStrike">
                <a:solidFill>
                  <a:srgbClr val="000000"/>
                </a:solidFill>
                <a:latin typeface="Lucida Sans Unicode"/>
              </a:rPr>
              <a:t>/ </a:t>
            </a:r>
            <a:r>
              <a:rPr b="0" lang="el-GR" sz="2500" spc="-1" strike="noStrike">
                <a:solidFill>
                  <a:srgbClr val="000000"/>
                </a:solidFill>
                <a:latin typeface="Lucida Sans Unicode"/>
              </a:rPr>
              <a:t>σ</a:t>
            </a:r>
            <a:r>
              <a:rPr b="0" lang="en-US" sz="2500" spc="-1" strike="noStrike" baseline="30000">
                <a:solidFill>
                  <a:srgbClr val="000000"/>
                </a:solidFill>
                <a:latin typeface="Lucida Sans Unicode"/>
              </a:rPr>
              <a:t>4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α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sr-Latn-CS" sz="2500" spc="-1" strike="noStrike">
                <a:solidFill>
                  <a:srgbClr val="000000"/>
                </a:solidFill>
                <a:latin typeface="Lucida Sans Unicode"/>
              </a:rPr>
              <a:t>=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14.9271/6.636= 2.25 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spljo</a:t>
            </a:r>
            <a:r>
              <a:rPr b="1" lang="sr-Latn-CS" sz="1900" spc="-1" strike="noStrike">
                <a:solidFill>
                  <a:srgbClr val="000000"/>
                </a:solidFill>
                <a:latin typeface="Lucida Sans Unicode"/>
              </a:rPr>
              <a:t>š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tenija od normalne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Ako oduzmemo 3 od rezultata  kurtosisa dobijamo                 – 0.75 (negativna vrijednost zna</a:t>
            </a:r>
            <a:r>
              <a:rPr b="0" lang="sr-Latn-CS" sz="25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i sp</a:t>
            </a:r>
            <a:r>
              <a:rPr b="0" lang="sr-Latn-CS" sz="2500" spc="-1" strike="noStrike">
                <a:solidFill>
                  <a:srgbClr val="000000"/>
                </a:solidFill>
                <a:latin typeface="Lucida Sans Unicode"/>
              </a:rPr>
              <a:t>ljoštenu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distribuciju)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5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3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4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228600" cy="457200"/>
          </a:xfrm>
          <a:prstGeom prst="rect">
            <a:avLst/>
          </a:prstGeom>
          <a:ln w="0">
            <a:noFill/>
          </a:ln>
        </p:spPr>
      </p:pic>
      <p:sp>
        <p:nvSpPr>
          <p:cNvPr id="438" name="Rectangle 6"/>
          <p:cNvSpPr/>
          <p:nvPr/>
        </p:nvSpPr>
        <p:spPr>
          <a:xfrm>
            <a:off x="45720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U statistici postoje numeričke </a:t>
            </a: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mjere varijabilnost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Mjere varijablinosti imaju za cilj da numerički precizno ukažu u kojoj mjeri distribucija vrijednosti odstupa od centralne tendencij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0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2" descr=""/>
          <p:cNvPicPr/>
          <p:nvPr/>
        </p:nvPicPr>
        <p:blipFill>
          <a:blip r:embed="rId1"/>
          <a:stretch/>
        </p:blipFill>
        <p:spPr>
          <a:xfrm>
            <a:off x="663480" y="1523880"/>
            <a:ext cx="7794720" cy="4427640"/>
          </a:xfrm>
          <a:prstGeom prst="rect">
            <a:avLst/>
          </a:prstGeom>
          <a:ln w="0">
            <a:noFill/>
          </a:ln>
        </p:spPr>
      </p:pic>
      <p:pic>
        <p:nvPicPr>
          <p:cNvPr id="380" name="Title 1" descr=""/>
          <p:cNvPicPr/>
          <p:nvPr/>
        </p:nvPicPr>
        <p:blipFill>
          <a:blip r:embed="rId2"/>
          <a:stretch/>
        </p:blipFill>
        <p:spPr>
          <a:xfrm>
            <a:off x="231840" y="128520"/>
            <a:ext cx="845496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Apsolutna mjera disperzije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Opseg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(Range) je najjednostavnija m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j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era varijabilnosti i on odgovara razlici između najveće(max)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i najmanje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(min)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izm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j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erene vr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ij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ednosti u nizu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U našem gornjem prim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j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eru u kojima smo dali prikaz dstribucije godina ispitanika Opseg = 90–18= 72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NAPOMENA: Range je jedna od mjera varijabilnosti koja je sasvim nedostatna, naime, u okviru opsega (max-min) moguće su sasvim različite distribucije vrijednosti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2" name="Title 1" descr=""/>
          <p:cNvPicPr/>
          <p:nvPr/>
        </p:nvPicPr>
        <p:blipFill>
          <a:blip r:embed="rId1"/>
          <a:stretch/>
        </p:blipFill>
        <p:spPr>
          <a:xfrm>
            <a:off x="231840" y="274680"/>
            <a:ext cx="845496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700" spc="-1" strike="noStrike">
                <a:solidFill>
                  <a:srgbClr val="000000"/>
                </a:solidFill>
                <a:latin typeface="Lucida Sans Unicode"/>
              </a:rPr>
              <a:t>Standardna devijacija 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je jedna od ključnih mjera varijabilnosti koja ukazuje u kojoj su mjeri vrijednosti udaljene od aritmetičke sredine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Da bi izračunali standardu devijaciju nužno je prvo izračunati </a:t>
            </a: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varijansu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Varijansa se izračunava po sledećoj formuli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4" name="Title 1" descr=""/>
          <p:cNvPicPr/>
          <p:nvPr/>
        </p:nvPicPr>
        <p:blipFill>
          <a:blip r:embed="rId1"/>
          <a:stretch/>
        </p:blipFill>
        <p:spPr>
          <a:xfrm>
            <a:off x="231840" y="274680"/>
            <a:ext cx="845496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2" descr=""/>
          <p:cNvPicPr/>
          <p:nvPr/>
        </p:nvPicPr>
        <p:blipFill>
          <a:blip r:embed="rId1"/>
          <a:stretch/>
        </p:blipFill>
        <p:spPr>
          <a:xfrm>
            <a:off x="0" y="990720"/>
            <a:ext cx="9007560" cy="2971800"/>
          </a:xfrm>
          <a:prstGeom prst="rect">
            <a:avLst/>
          </a:prstGeom>
          <a:ln w="0">
            <a:noFill/>
          </a:ln>
        </p:spPr>
      </p:pic>
      <p:pic>
        <p:nvPicPr>
          <p:cNvPr id="446" name="Title 1" descr=""/>
          <p:cNvPicPr/>
          <p:nvPr/>
        </p:nvPicPr>
        <p:blipFill>
          <a:blip r:embed="rId2"/>
          <a:stretch/>
        </p:blipFill>
        <p:spPr>
          <a:xfrm>
            <a:off x="231840" y="128520"/>
            <a:ext cx="8454960" cy="1292400"/>
          </a:xfrm>
          <a:prstGeom prst="rect">
            <a:avLst/>
          </a:prstGeom>
          <a:ln w="0">
            <a:noFill/>
          </a:ln>
        </p:spPr>
      </p:pic>
      <p:sp>
        <p:nvSpPr>
          <p:cNvPr id="447" name="Rectangle 4"/>
          <p:cNvSpPr/>
          <p:nvPr/>
        </p:nvSpPr>
        <p:spPr>
          <a:xfrm>
            <a:off x="380880" y="4191120"/>
            <a:ext cx="815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alibri"/>
                <a:ea typeface="Arial"/>
              </a:rPr>
              <a:t>Na osnovu varijanse se izračunava standardna devijacija, a ona predstavlja pozitivni kvadratni korijen varijans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3" descr=""/>
          <p:cNvPicPr/>
          <p:nvPr/>
        </p:nvPicPr>
        <p:blipFill>
          <a:blip r:embed="rId3"/>
          <a:stretch/>
        </p:blipFill>
        <p:spPr>
          <a:xfrm>
            <a:off x="2895480" y="5181480"/>
            <a:ext cx="2549520" cy="609840"/>
          </a:xfrm>
          <a:prstGeom prst="rect">
            <a:avLst/>
          </a:prstGeom>
          <a:ln w="0">
            <a:noFill/>
          </a:ln>
        </p:spPr>
      </p:pic>
      <p:sp>
        <p:nvSpPr>
          <p:cNvPr id="449" name="Rectangle 6"/>
          <p:cNvSpPr/>
          <p:nvPr/>
        </p:nvSpPr>
        <p:spPr>
          <a:xfrm>
            <a:off x="557640" y="5943600"/>
            <a:ext cx="4353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  <a:ea typeface="Arial"/>
              </a:rPr>
              <a:t>Prema tome u našem primjeru SD j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4" descr=""/>
          <p:cNvPicPr/>
          <p:nvPr/>
        </p:nvPicPr>
        <p:blipFill>
          <a:blip r:embed="rId4"/>
          <a:stretch/>
        </p:blipFill>
        <p:spPr>
          <a:xfrm>
            <a:off x="4952880" y="5867280"/>
            <a:ext cx="27115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oeficijent varijacij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σ/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oliki je udio odstupanja u aritmeti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oj sredin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.58/3=0.5266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ko se radi o cijenama, kakav bi bio komentar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2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Standardna devijacija uz aritmetičku sredinu nam pruža veoma korisne informacije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Ključna uloga standardne devijacije jeste da se na osnovu nje formiraju intervali povjerenja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4" name="Title 1" descr=""/>
          <p:cNvPicPr/>
          <p:nvPr/>
        </p:nvPicPr>
        <p:blipFill>
          <a:blip r:embed="rId1"/>
          <a:stretch/>
        </p:blipFill>
        <p:spPr>
          <a:xfrm>
            <a:off x="231840" y="274680"/>
            <a:ext cx="8663040" cy="118908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7" descr=""/>
          <p:cNvPicPr/>
          <p:nvPr/>
        </p:nvPicPr>
        <p:blipFill>
          <a:blip r:embed="rId2"/>
          <a:stretch/>
        </p:blipFill>
        <p:spPr>
          <a:xfrm>
            <a:off x="990720" y="3505320"/>
            <a:ext cx="426240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533520" y="1447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Dakle, aritmetička sredina starosti naših ispitanika je 44,28, a standardna devijacija je 16,82. Slijedi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7" name="Title 1" descr=""/>
          <p:cNvPicPr/>
          <p:nvPr/>
        </p:nvPicPr>
        <p:blipFill>
          <a:blip r:embed="rId1"/>
          <a:stretch/>
        </p:blipFill>
        <p:spPr>
          <a:xfrm>
            <a:off x="231840" y="274680"/>
            <a:ext cx="8551800" cy="11890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2" descr=""/>
          <p:cNvPicPr/>
          <p:nvPr/>
        </p:nvPicPr>
        <p:blipFill>
          <a:blip r:embed="rId2"/>
          <a:stretch/>
        </p:blipFill>
        <p:spPr>
          <a:xfrm>
            <a:off x="609480" y="2514600"/>
            <a:ext cx="8205840" cy="1676520"/>
          </a:xfrm>
          <a:prstGeom prst="rect">
            <a:avLst/>
          </a:prstGeom>
          <a:ln w="0">
            <a:noFill/>
          </a:ln>
        </p:spPr>
      </p:pic>
      <p:sp>
        <p:nvSpPr>
          <p:cNvPr id="459" name="Rectangle 4"/>
          <p:cNvSpPr/>
          <p:nvPr/>
        </p:nvSpPr>
        <p:spPr>
          <a:xfrm>
            <a:off x="533520" y="4191120"/>
            <a:ext cx="81532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</a:rPr>
              <a:t>Promptni zaključak: Distribucija je asimetrična i to udesno, naime, sa +/-dve standardne devijacije mi smo potpuno iscrp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j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</a:rPr>
              <a:t>eli niske vr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ij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</a:rPr>
              <a:t>ednosti tj. mlađi, dok još uvek nismo obuhvatili visoke vr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ij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</a:rPr>
              <a:t>ednosti tj.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s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</a:rPr>
              <a:t>tariji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304920" y="198108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Lucida Sans Unicode"/>
              </a:rPr>
              <a:t>Ukoliko je distribucija normalna: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Lucida Sans Unicode"/>
              </a:rPr>
              <a:t>  – </a:t>
            </a:r>
            <a:r>
              <a:rPr b="0" lang="sr-Latn-CS" sz="2600" spc="-1" strike="noStrike">
                <a:solidFill>
                  <a:srgbClr val="000000"/>
                </a:solidFill>
                <a:latin typeface="Lucida Sans Unicode"/>
              </a:rPr>
              <a:t>Oko 68% vrijednosti će biti obuhvaćene +/-1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Lucida Sans Unicode"/>
              </a:rPr>
              <a:t>  – </a:t>
            </a:r>
            <a:r>
              <a:rPr b="0" lang="sr-Latn-CS" sz="2600" spc="-1" strike="noStrike">
                <a:solidFill>
                  <a:srgbClr val="000000"/>
                </a:solidFill>
                <a:latin typeface="Lucida Sans Unicode"/>
              </a:rPr>
              <a:t>Oko 95% vrijednosti će biti obuhvaćene +/-2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Lucida Sans Unicode"/>
              </a:rPr>
              <a:t>  – </a:t>
            </a:r>
            <a:r>
              <a:rPr b="0" lang="sr-Latn-CS" sz="2600" spc="-1" strike="noStrike">
                <a:solidFill>
                  <a:srgbClr val="000000"/>
                </a:solidFill>
                <a:latin typeface="Lucida Sans Unicode"/>
              </a:rPr>
              <a:t>Oko 99,7% vrijednosti će biti obuhvaćene +/-3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1" name="Title 1" descr=""/>
          <p:cNvPicPr/>
          <p:nvPr/>
        </p:nvPicPr>
        <p:blipFill>
          <a:blip r:embed="rId1"/>
          <a:stretch/>
        </p:blipFill>
        <p:spPr>
          <a:xfrm>
            <a:off x="231840" y="133200"/>
            <a:ext cx="877248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Ako su pros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ečna primanja u Crnoj Gori 300 EUR sa standardnom devijacijom 130 EUR. To znači da oko 68%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populacije u Crnoj Gori ima primanja između 170 i 430 EUR i oko 95% populacije ima platu od 40 do 560 EUR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3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Percentili predstavljaju sumarne kumulativne pokazatelje distribucije iskazane relativnim frekvencijama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Percentili u suštini dijele ukupnu kumulativnu distribuciju u jednoj tački, te prema tome se distribucija dijeli na dva dijela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Najčešći u upotrebi je tzv 50-ti percentil, koji ima vrijednost medijane. Kada je o njemu riječ, ukupna distribucija se dijeli na način da polovina slučajeva (objekata) ima vrijednosti ispod a polovina iznad medijane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U upotrebi su takođe i 25-ti, 75-ti percentil, a nekada se koriste i 10-ti i 90-ti percenti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Upotreba je jednostavna, npr. ako je u našem prim</a:t>
            </a:r>
            <a:r>
              <a:rPr b="0" lang="sr-Latn-C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j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er</a:t>
            </a:r>
            <a:r>
              <a:rPr b="0" lang="sr-Latn-C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u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 sa godinama vr</a:t>
            </a:r>
            <a:r>
              <a:rPr b="0" lang="sr-Latn-C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ij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ednost na 25-om percentilu =30, to znači da 25% populacije jeste mlađe od 30 godina. Budući da je vr</a:t>
            </a:r>
            <a:r>
              <a:rPr b="0" lang="sr-Latn-C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ij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ednost 75-og percentila 57,6, to znači da je 75% naših ispitanika mlađe od 57,6 g</a:t>
            </a:r>
            <a:r>
              <a:rPr b="0" lang="sr-Latn-C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od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ina. Konsekventno, pošto je vr</a:t>
            </a:r>
            <a:r>
              <a:rPr b="0" lang="sr-Latn-C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ij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ednost na 90-tom percentilu 68, proističe da je 90% naših ispitanika mlađe od 68 godina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Budući da 25-ti, 50-ti i 75-ti percentil d</a:t>
            </a:r>
            <a:r>
              <a:rPr b="0" lang="sr-Latn-C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ij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eli populaciju u četiri grupe, njih nazivamo </a:t>
            </a:r>
            <a:r>
              <a:rPr b="1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kvartilima 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a razliku između 75-tog i 25-tog, nazivamo </a:t>
            </a:r>
            <a:r>
              <a:rPr b="1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interkvartilni opseg 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(IQR –interquartile range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5" name="Title 1" descr=""/>
          <p:cNvPicPr/>
          <p:nvPr/>
        </p:nvPicPr>
        <p:blipFill>
          <a:blip r:embed="rId1"/>
          <a:stretch/>
        </p:blipFill>
        <p:spPr>
          <a:xfrm>
            <a:off x="231840" y="274680"/>
            <a:ext cx="845496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Lucida Sans Unicode"/>
              </a:rPr>
              <a:t>ključna svrha upotrebe </a:t>
            </a:r>
            <a:r>
              <a:rPr b="1" lang="vi-VN" sz="1800" spc="-1" strike="noStrike">
                <a:solidFill>
                  <a:srgbClr val="000000"/>
                </a:solidFill>
                <a:latin typeface="Lucida Sans Unicode"/>
              </a:rPr>
              <a:t>m</a:t>
            </a:r>
            <a:r>
              <a:rPr b="1" lang="sr-Latn-CS" sz="1800" spc="-1" strike="noStrike">
                <a:solidFill>
                  <a:srgbClr val="000000"/>
                </a:solidFill>
                <a:latin typeface="Lucida Sans Unicode"/>
              </a:rPr>
              <a:t>j</a:t>
            </a:r>
            <a:r>
              <a:rPr b="1" lang="vi-VN" sz="1800" spc="-1" strike="noStrike">
                <a:solidFill>
                  <a:srgbClr val="000000"/>
                </a:solidFill>
                <a:latin typeface="Lucida Sans Unicode"/>
              </a:rPr>
              <a:t>era centralne tendencije u društvenim naukama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Lucida Sans Unicode"/>
              </a:rPr>
              <a:t>statističk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i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</a:rPr>
              <a:t> parametr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i -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</a:rPr>
              <a:t> sve vr</a:t>
            </a:r>
            <a:r>
              <a:rPr b="0" lang="sr-Latn-CS" sz="1800" spc="-1" strike="noStrike">
                <a:solidFill>
                  <a:srgbClr val="000000"/>
                </a:solidFill>
                <a:latin typeface="Lucida Sans Unicode"/>
              </a:rPr>
              <a:t>ij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</a:rPr>
              <a:t>ednosti jednog numeričkog niza (varijable)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se 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</a:rPr>
              <a:t>‘centriraju’ i iskazuju posredstvom određene (jedne) numeričke vr</a:t>
            </a:r>
            <a:r>
              <a:rPr b="0" lang="sr-Latn-CS" sz="1800" spc="-1" strike="noStrike">
                <a:solidFill>
                  <a:srgbClr val="000000"/>
                </a:solidFill>
                <a:latin typeface="Lucida Sans Unicode"/>
              </a:rPr>
              <a:t>ij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</a:rPr>
              <a:t>ednosti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800" spc="-1" strike="noStrike">
                <a:solidFill>
                  <a:srgbClr val="000000"/>
                </a:solidFill>
                <a:latin typeface="Lucida Sans Unicode"/>
              </a:rPr>
              <a:t>Redukcioniz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a</a:t>
            </a:r>
            <a:r>
              <a:rPr b="1" lang="vi-VN" sz="1800" spc="-1" strike="noStrike">
                <a:solidFill>
                  <a:srgbClr val="000000"/>
                </a:solidFill>
                <a:latin typeface="Lucida Sans Unicode"/>
              </a:rPr>
              <a:t>m 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 - 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</a:rPr>
              <a:t>singularni numerički izraz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le 1" descr=""/>
          <p:cNvPicPr/>
          <p:nvPr/>
        </p:nvPicPr>
        <p:blipFill>
          <a:blip r:embed="rId1"/>
          <a:stretch/>
        </p:blipFill>
        <p:spPr>
          <a:xfrm>
            <a:off x="158760" y="158760"/>
            <a:ext cx="845496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380520" y="1523520"/>
            <a:ext cx="84582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društve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ne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 nauk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e - 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 pros</a:t>
            </a:r>
            <a:r>
              <a:rPr b="0" lang="sr-Latn-C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j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ečne karakteristike populacije ili uzorka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DEFINICIJA: Aritmetička sredina nekog seta kvantitativnih podataka (numeričkog niza) jeste suma svih vrijednosti podijeljena sa ukupnim brojem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podataka </a:t>
            </a:r>
            <a:r>
              <a:rPr b="0" lang="sr-Latn-C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od kojih se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uzorak </a:t>
            </a:r>
            <a:r>
              <a:rPr b="0" lang="sr-Latn-C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sastoji: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le 1" descr=""/>
          <p:cNvPicPr/>
          <p:nvPr/>
        </p:nvPicPr>
        <p:blipFill>
          <a:blip r:embed="rId1"/>
          <a:stretch/>
        </p:blipFill>
        <p:spPr>
          <a:xfrm>
            <a:off x="231840" y="0"/>
            <a:ext cx="8454960" cy="11890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4" descr=""/>
          <p:cNvPicPr/>
          <p:nvPr/>
        </p:nvPicPr>
        <p:blipFill>
          <a:blip r:embed="rId2"/>
          <a:stretch/>
        </p:blipFill>
        <p:spPr>
          <a:xfrm>
            <a:off x="3352680" y="3578400"/>
            <a:ext cx="2210040" cy="1145880"/>
          </a:xfrm>
          <a:prstGeom prst="rect">
            <a:avLst/>
          </a:prstGeom>
          <a:ln w="0">
            <a:noFill/>
          </a:ln>
        </p:spPr>
      </p:pic>
      <p:sp>
        <p:nvSpPr>
          <p:cNvPr id="386" name="Rectangle 6"/>
          <p:cNvSpPr/>
          <p:nvPr/>
        </p:nvSpPr>
        <p:spPr>
          <a:xfrm>
            <a:off x="380880" y="4894200"/>
            <a:ext cx="861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Napomena:  </a:t>
            </a:r>
            <a:r>
              <a:rPr b="0" i="1" lang="sr-Latn-CS" sz="2000" spc="-1" strike="noStrike">
                <a:solidFill>
                  <a:srgbClr val="000000"/>
                </a:solidFill>
                <a:latin typeface="Lucida Sans Unicode"/>
              </a:rPr>
              <a:t>Simbol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i="1" lang="sr-Latn-CS" sz="2000" spc="-1" strike="noStrike">
                <a:solidFill>
                  <a:srgbClr val="000000"/>
                </a:solidFill>
                <a:latin typeface="Lucida Sans Unicode"/>
              </a:rPr>
              <a:t> se koristi kada se označava aritmetička sredina uzorka, dok se simbol </a:t>
            </a:r>
            <a:r>
              <a:rPr b="0" i="1" lang="el-GR" sz="2000" spc="-1" strike="noStrike">
                <a:solidFill>
                  <a:srgbClr val="000000"/>
                </a:solidFill>
                <a:latin typeface="Lucida Sans Unicode"/>
              </a:rPr>
              <a:t>μ </a:t>
            </a:r>
            <a:r>
              <a:rPr b="0" i="1" lang="sr-Latn-CS" sz="2000" spc="-1" strike="noStrike">
                <a:solidFill>
                  <a:srgbClr val="000000"/>
                </a:solidFill>
                <a:latin typeface="Lucida Sans Unicode"/>
              </a:rPr>
              <a:t>koristi kada je reč o populaci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5" descr=""/>
          <p:cNvPicPr/>
          <p:nvPr/>
        </p:nvPicPr>
        <p:blipFill>
          <a:blip r:embed="rId3"/>
          <a:stretch/>
        </p:blipFill>
        <p:spPr>
          <a:xfrm>
            <a:off x="2890800" y="4670280"/>
            <a:ext cx="3142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3808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Npr. Ako k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žemo da su ispitanici u našem uzorku stari u prosjeku 44 godi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to znači d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……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Dva su ključna faktora od kojih zavisi preciznost ovog podatka (aritmetičke sredine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1. Od veličine uzorka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2. Od varijabilnosti tj. opsega (rasprostranjenosti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le 1" descr=""/>
          <p:cNvPicPr/>
          <p:nvPr/>
        </p:nvPicPr>
        <p:blipFill>
          <a:blip r:embed="rId1"/>
          <a:stretch/>
        </p:blipFill>
        <p:spPr>
          <a:xfrm>
            <a:off x="231840" y="133200"/>
            <a:ext cx="869940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Medijana,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takođe,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jeste neka vrsta pros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j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ečne vr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ij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ednosti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DEFINICIJA: Medijana nekog kvan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t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itativnog seta podataka jeste srednji broj u situaciji kada se sve vr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ij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ednosti poređaju od najniže do najviše ili obrnuto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Ukoliko je niz brojeva neparan, onda je medijana broj u sredini. Ukoliko je broj paran, onda je medijana srednja vrijednost srednja dva broja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Title 1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45496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Pr.1. Ako se varijabla sastoji od 7 brojeva 5,7,4,5,20,6 i 2 onda se medijana izračunava: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2,4,5,</a:t>
            </a:r>
            <a:r>
              <a:rPr b="1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,6,7,20  M=5 (broj u sredini posmatrano s krajeva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Pr.2. Ukoliko je pak varijabla sa parnim brojem brojeva (n=6) , npr. varijabla 4,5,5,6,7,20 onda se medijana izračunava: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4,5,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5,6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,7,20         M = (5+6)/2 = 5.5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Title 1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45496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U nekim situacijama medijana je bolja mjera centralne tendencije u odnosu na aritmetičku sredinu. Zašto?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Neke varijable u društvenim istraživanjima su naročito pogodne za medijanu, npr. prihod iskazan u intervalnoj skali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Prosjek zarada – aritmetička sredina ili medijana?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le 1" descr=""/>
          <p:cNvPicPr/>
          <p:nvPr/>
        </p:nvPicPr>
        <p:blipFill>
          <a:blip r:embed="rId1"/>
          <a:stretch/>
        </p:blipFill>
        <p:spPr>
          <a:xfrm>
            <a:off x="231840" y="133200"/>
            <a:ext cx="845496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19:30:32Z</dcterms:created>
  <dc:creator>Ana</dc:creator>
  <dc:description/>
  <dc:language>en-US</dc:language>
  <cp:lastModifiedBy>User</cp:lastModifiedBy>
  <dcterms:modified xsi:type="dcterms:W3CDTF">2019-02-06T14:26:44Z</dcterms:modified>
  <cp:revision>87</cp:revision>
  <dc:subject/>
  <dc:title>DESKRIPTIVNA STATISTIKA II DEO</dc:title>
</cp:coreProperties>
</file>